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18F-BEFC-4E2D-ACEA-CDEA09EA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B37-4E5A-4503-B64B-B836709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B61-014E-474E-804A-B50AE9A7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F0F-DC10-4FA6-8707-4FDE8953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CDC-2A4A-4651-9E9B-4EDED82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44B-B676-4FC0-A41A-D27DEE5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47E-2F72-421D-BA1A-943EBE8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0C4-543A-456F-8BF5-54CCD4C5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F55-2EFE-4144-B958-59388DDB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CF1-D74D-4AB5-A136-8ECEF29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4E4-830C-48FD-AFE5-FDA90F5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CDA-B5DA-4F29-8A2F-5A6B42A2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CFBA4-C892-4EA0-9BC6-D110A1E245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4647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IS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loating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hort draf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3962520" y="5334120"/>
            <a:ext cx="111096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logo_cetmef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939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one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259092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05740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981080"/>
            <a:ext cx="1295280" cy="914400"/>
            <a:chOff x="685800" y="1981080"/>
            <a:chExt cx="1295280" cy="914400"/>
          </a:xfrm>
        </p:grpSpPr>
        <p:sp>
          <p:nvSpPr>
            <p:cNvPr id="63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4382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666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76720" y="6248520"/>
            <a:ext cx="3657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6019920"/>
            <a:ext cx="1439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tholittoral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ubdi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497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3240" y="53341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638680"/>
            <a:ext cx="283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43828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43400" y="3429000"/>
            <a:ext cx="1447920" cy="990720"/>
            <a:chOff x="4343400" y="34290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4952880" y="3809880"/>
              <a:ext cx="53352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581280"/>
              <a:ext cx="6858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8320" y="3429000"/>
              <a:ext cx="11430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20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48640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Vue_gene_Subdi_cle531cb6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784836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640" y="2268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nce" descr=""/>
          <p:cNvPicPr/>
          <p:nvPr/>
        </p:nvPicPr>
        <p:blipFill>
          <a:blip r:embed="rId2"/>
          <a:stretch/>
        </p:blipFill>
        <p:spPr>
          <a:xfrm>
            <a:off x="423720" y="304920"/>
            <a:ext cx="829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one" descr=""/>
          <p:cNvPicPr/>
          <p:nvPr/>
        </p:nvPicPr>
        <p:blipFill>
          <a:blip r:embed="rId2"/>
          <a:stretch/>
        </p:blipFill>
        <p:spPr>
          <a:xfrm>
            <a:off x="-861840" y="271440"/>
            <a:ext cx="1086768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240" y="66229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enary (1 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orkgroup (4 rooms conference or round table config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fi equipments, projectors and so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ty to have catering there and coffee breaks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f a day for an exhibition on port facilit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le%201%20sièges%20rouges%202" descr=""/>
          <p:cNvPicPr/>
          <p:nvPr/>
        </p:nvPicPr>
        <p:blipFill>
          <a:blip r:embed="rId2"/>
          <a:stretch/>
        </p:blipFill>
        <p:spPr>
          <a:xfrm>
            <a:off x="12600" y="825480"/>
            <a:ext cx="91188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" y="60199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ALLE%20N2" descr=""/>
          <p:cNvPicPr/>
          <p:nvPr/>
        </p:nvPicPr>
        <p:blipFill>
          <a:blip r:embed="rId2"/>
          <a:stretch/>
        </p:blipFill>
        <p:spPr>
          <a:xfrm>
            <a:off x="1138320" y="1476360"/>
            <a:ext cx="686736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7760" y="541008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alons%20BCD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76312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336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84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rest_Quartz1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848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hotels used for conferences (5 minutes walk from workshop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l (5 minutes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port (bus or Ta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ty bus or regular b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ner on a boat in roadstead where some plastic buoys are mo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t day, Trip to Ushant island (atons museum and 6 lighthouses on the island or around the Isla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PB</cp:lastModifiedBy>
  <dcterms:modified xsi:type="dcterms:W3CDTF">2007-04-17T09:48:58Z</dcterms:modified>
  <cp:revision>15</cp:revision>
  <dc:subject/>
  <dc:title>PowerPoint Presentation</dc:title>
</cp:coreProperties>
</file>